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3.png" ContentType="image/png"/>
  <Override PartName="/ppt/media/image10.gif" ContentType="image/gif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EC9-22E3-4209-9845-EBE5AFA7F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5E70-1109-4004-99AA-402F9D6BC3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8BF-933A-4054-B347-CB4B1CD7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9B4-070A-4064-A4BD-9F7E875B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9D5-FF29-48A8-9DE5-B736CD2C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7F4-3C32-4CEF-AA9C-EBE93599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1F915-7452-41E2-AB99-0BFFBABF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B5761-FE03-44C4-9118-E45648CD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02A7D-86FB-45B3-8C78-3B6FC1E9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83295-212C-49EA-BCA9-45528B1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AB63-34CD-4A8E-9FD9-2C3714A3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832F2-8E69-47AF-88CE-B62700A3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0C23D-BEB7-4AFE-AE2D-9261F11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EC5-B047-420B-94A9-7DFC0C1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A92C2-D1A2-4F84-A05C-6C7145D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1630A-7529-4D3C-BC77-CBF5780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66047-DE42-4938-B700-E23F6554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36068-543B-4904-823D-51EF3116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FCAC7-1855-497C-AD0E-4E095BDA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8E0-5831-408E-8140-6C2FDB8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1C0-378E-4A5C-9F4A-80D92BC3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F51-6A71-4569-852E-04EC714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89D-D9BC-4F5A-BFF7-65A5A62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268-900D-4CB2-9A78-3EC8DD4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B5F-CE81-41AD-A58E-95605D7C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332-9A01-40E9-8565-B38EF26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415-E23A-46AB-B791-590A29A827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BEB-6126-4308-A2DB-CB9ECA62B0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Всероссийский открытый урок-игра по ОБЖ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«Чтобы выжить- надо знать!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1. «Просьба о помощи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задании вы получаете карточку с номером телефона экстренной службы. Необходимо назвать экстренную службу по номеру телефона, позвонить туда и правильно провести разговор с диспетчером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7" descr="j0285096"/>
          <p:cNvPicPr/>
          <p:nvPr/>
        </p:nvPicPr>
        <p:blipFill>
          <a:blip r:embed="rId1"/>
          <a:stretch/>
        </p:blipFill>
        <p:spPr>
          <a:xfrm>
            <a:off x="5940360" y="19890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е 2. «Тушим сами»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правильно вызвать пожарную службу, мы знаем. Но сами  -бездействовать не можем! Что же делать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5" descr="J0076146"/>
          <p:cNvPicPr/>
          <p:nvPr/>
        </p:nvPicPr>
        <p:blipFill>
          <a:blip r:embed="rId1"/>
          <a:stretch/>
        </p:blipFill>
        <p:spPr>
          <a:xfrm>
            <a:off x="468360" y="4292640"/>
            <a:ext cx="842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опрос 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6300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Чем можно затушить горящие бензин, керосин и другие органические мас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Если на вас загорелась одежда, ваши действ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Что делать, если комната, в которой вы находитесь, стала заполняться густым едким ды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AG00355_"/>
          <p:cNvPicPr/>
          <p:nvPr/>
        </p:nvPicPr>
        <p:blipFill>
          <a:blip r:embed="rId1"/>
          <a:stretch/>
        </p:blipFill>
        <p:spPr>
          <a:xfrm>
            <a:off x="468360" y="1557360"/>
            <a:ext cx="234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ая медицинская помощ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7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медицинская помощь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остейшие срочные и необходимые меры для спасения жизни человека и предупреждения осложнений до прибытия скорой помощ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кстремальных условиях может возникнуть ситуация, когда только ты сможешь оказать первую медицинскую помощь себе или пострадавшему товар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Содержимое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3. «Помоги пострадавшему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оказать медицинскую помощь при ссадинах или порез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ищевом отравл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ть первую помощь при ож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j0182812"/>
          <p:cNvPicPr/>
          <p:nvPr/>
        </p:nvPicPr>
        <p:blipFill>
          <a:blip r:embed="rId1"/>
          <a:stretch/>
        </p:blipFill>
        <p:spPr>
          <a:xfrm>
            <a:off x="4788000" y="1773360"/>
            <a:ext cx="3657600" cy="2376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2"/>
          <a:stretch/>
        </p:blipFill>
        <p:spPr>
          <a:xfrm>
            <a:off x="5580000" y="4365720"/>
            <a:ext cx="2808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едикаменты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4" name="Picture 6" descr="PICT0003"/>
          <p:cNvPicPr/>
          <p:nvPr/>
        </p:nvPicPr>
        <p:blipFill>
          <a:blip r:embed="rId1"/>
          <a:stretch/>
        </p:blipFill>
        <p:spPr>
          <a:xfrm>
            <a:off x="179280" y="1557360"/>
            <a:ext cx="5562720" cy="4767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41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-р бриллиантовый зелё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нтен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ый перевязочный па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манганат к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ись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лфетки стерильные медицин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оль активир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</a:rPr>
              <a:t>Чрезвычайные ситуации на железной дороге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человек в среднем один-два раза в год едет куда-нибудь на поезде. Поезда - достаточно безопасный вид транспорта, но всё же нужно быть готовым к возможным опасным ситуациям, чтобы не растеряться в трудную минуту и действовать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5" descr=""/>
          <p:cNvPicPr/>
          <p:nvPr/>
        </p:nvPicPr>
        <p:blipFill>
          <a:blip r:embed="rId1"/>
          <a:stretch/>
        </p:blipFill>
        <p:spPr>
          <a:xfrm>
            <a:off x="1476360" y="3716280"/>
            <a:ext cx="640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равочная информаци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крупных мировых катастроф на железных дорогах случилась 6 июня 1981 года в Индии. В ней погибло 8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j0201797"/>
          <p:cNvPicPr/>
          <p:nvPr/>
        </p:nvPicPr>
        <p:blipFill>
          <a:blip r:embed="rId1"/>
          <a:stretch/>
        </p:blipFill>
        <p:spPr>
          <a:xfrm>
            <a:off x="4838760" y="1557360"/>
            <a:ext cx="3657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4. «Осторожно, поезд!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39640" y="1268280"/>
            <a:ext cx="655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ставим ситуацию пожара в вагоне поезда. Необходимо расположить приведённые ниже действия в нужной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ходи от пожара в передние вагоны, если это невозможно, иди в конец поезда, плотно закрывая за собой все двер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ой окна, чтобы ветер не раздувал пла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существует угроза твоей жизни, не пытайся спасать баг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сообщи проводнику о пожаре, извести пассажиров о случившемся, разбуди спящ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5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448000" cy="2519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250920" y="1484280"/>
            <a:ext cx="2233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8324 E">
                                      <p:cBhvr>
                                        <p:cTn id="1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8798 E">
                                      <p:cBhvr>
                                        <p:cTn id="112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6786 E">
                                      <p:cBhvr>
                                        <p:cTn id="116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еспечение безопасности дорожного дви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1116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cc"/>
                </a:solidFill>
                <a:latin typeface="Arial"/>
              </a:rPr>
              <a:t>Справоч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временный транспорт – зона повышенной опасности. Под колёсами машин ежегодно в дорожно-транспортных происшествиях погибает в нашей стране около 40000 человек, из них каждый десятый – ребёнок, причём мальчиков погибает боль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этому нужно знать и соблюдать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Содержимое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025800" cy="180000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5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0956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ЧС  Росс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истерство Российской Федерации по делам гражданской обороны, чрезвычайным ситуациям и ликвидации последствий стихийных бедств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о 27 декабря 1990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ший орган государственной вла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идент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5. « Мои друзья – дорожные знаки!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11" descr="Дети"/>
          <p:cNvPicPr/>
          <p:nvPr/>
        </p:nvPicPr>
        <p:blipFill>
          <a:blip r:embed="rId1"/>
          <a:stretch/>
        </p:blipFill>
        <p:spPr>
          <a:xfrm>
            <a:off x="1042920" y="162864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Переход"/>
          <p:cNvPicPr/>
          <p:nvPr/>
        </p:nvPicPr>
        <p:blipFill>
          <a:blip r:embed="rId2"/>
          <a:stretch/>
        </p:blipFill>
        <p:spPr>
          <a:xfrm>
            <a:off x="6012000" y="1628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вы куда-нибудь едете  вам по пути встречается много дорожных знаков. Знаете ли вы, что они обознач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командам спасателей: у вас имеются карточки с изображением дорожных знаков, вам надо правильно  определить, что он обознач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826920" y="3645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5435640" y="3500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прещающие знак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7" name="Picture 10" descr="Зачёркнутый пешеход"/>
          <p:cNvPicPr/>
          <p:nvPr/>
        </p:nvPicPr>
        <p:blipFill>
          <a:blip r:embed="rId1"/>
          <a:stretch/>
        </p:blipFill>
        <p:spPr>
          <a:xfrm>
            <a:off x="826920" y="2133720"/>
            <a:ext cx="3384720" cy="2950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1042920" y="53211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24000" y="551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ешеход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543564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на велосипедах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7" descr="Велосипед"/>
          <p:cNvPicPr/>
          <p:nvPr/>
        </p:nvPicPr>
        <p:blipFill>
          <a:blip r:embed="rId2"/>
          <a:stretch/>
        </p:blipFill>
        <p:spPr>
          <a:xfrm>
            <a:off x="5148360" y="2133720"/>
            <a:ext cx="3166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наки особых предписани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3" name="Picture 8" descr="Пешеход спускается"/>
          <p:cNvPicPr/>
          <p:nvPr/>
        </p:nvPicPr>
        <p:blipFill>
          <a:blip r:embed="rId1"/>
          <a:stretch/>
        </p:blipFill>
        <p:spPr>
          <a:xfrm>
            <a:off x="5219640" y="1844640"/>
            <a:ext cx="2952720" cy="2879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1042920" y="522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о остановки трам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5508720" y="5373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емный 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Синий трамвай"/>
          <p:cNvPicPr/>
          <p:nvPr/>
        </p:nvPicPr>
        <p:blipFill>
          <a:blip r:embed="rId2"/>
          <a:stretch/>
        </p:blipFill>
        <p:spPr>
          <a:xfrm>
            <a:off x="755640" y="1844640"/>
            <a:ext cx="316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едупреждающие знак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8" name="Picture 8" descr="Паровозик"/>
          <p:cNvPicPr/>
          <p:nvPr/>
        </p:nvPicPr>
        <p:blipFill>
          <a:blip r:embed="rId1"/>
          <a:stretch/>
        </p:blipFill>
        <p:spPr>
          <a:xfrm>
            <a:off x="5003640" y="1708200"/>
            <a:ext cx="3600720" cy="323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Трамвай"/>
          <p:cNvPicPr/>
          <p:nvPr/>
        </p:nvPicPr>
        <p:blipFill>
          <a:blip r:embed="rId2"/>
          <a:stretch/>
        </p:blipFill>
        <p:spPr>
          <a:xfrm>
            <a:off x="611280" y="1709640"/>
            <a:ext cx="3529080" cy="3232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1"/>
          <p:cNvSpPr/>
          <p:nvPr/>
        </p:nvSpPr>
        <p:spPr>
          <a:xfrm>
            <a:off x="826920" y="51768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ечение с трамвайной лин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292720" y="54658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435640" y="53211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нодорожный переезд без шлагба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Белореченск – промышленный город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1130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 все промышленные города, в определённой степени является объектом потенциальной опасности для людей и окружающе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районе расположены химический завод, маслоэкстракционный завод, завод по производству  ЖБИ и другие предприятия, на которых при аварии возможно заражение воздуха парами хлора, аммиака и других отравля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3" descr="j0185096"/>
          <p:cNvPicPr/>
          <p:nvPr/>
        </p:nvPicPr>
        <p:blipFill>
          <a:blip r:embed="rId1"/>
          <a:stretch/>
        </p:blipFill>
        <p:spPr>
          <a:xfrm>
            <a:off x="5508720" y="1557360"/>
            <a:ext cx="345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редства индивидуальной защи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508720" y="1844640"/>
            <a:ext cx="363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значены для защиты человека от радиоактивных и отравляющих веществ и бактериальных средств. По своему назначению они делятся на средства защиты органов дыхания (противогазы, респираторы, ватно-марлевые повязки, пыле- тканевые маски) и кожи. По принципу защиты  - на фильтрующие и изолирующ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j0182789"/>
          <p:cNvPicPr/>
          <p:nvPr/>
        </p:nvPicPr>
        <p:blipFill>
          <a:blip r:embed="rId1"/>
          <a:stretch/>
        </p:blipFill>
        <p:spPr>
          <a:xfrm>
            <a:off x="250920" y="2492280"/>
            <a:ext cx="547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ы заканчиваем  наш урок, и желаем нашим спасателям действовать в жизни так же дружно и обдуманно, как в игре. Запомните: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ша безопасность в ваших руках!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9" descr="j0178941"/>
          <p:cNvPicPr/>
          <p:nvPr/>
        </p:nvPicPr>
        <p:blipFill>
          <a:blip r:embed="rId1"/>
          <a:stretch/>
        </p:blipFill>
        <p:spPr>
          <a:xfrm>
            <a:off x="2268360" y="3357720"/>
            <a:ext cx="4967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нистр  МЧ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ладими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ндреевич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учко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 должност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 21 мая 2012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5286240" y="1714680"/>
            <a:ext cx="2957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мво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Содержимое 3" descr=""/>
          <p:cNvPicPr/>
          <p:nvPr/>
        </p:nvPicPr>
        <p:blipFill>
          <a:blip r:embed="rId1"/>
          <a:stretch/>
        </p:blipFill>
        <p:spPr>
          <a:xfrm>
            <a:off x="1619280" y="2700360"/>
            <a:ext cx="1714320" cy="2295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ая              Представитель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блема                           ф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пасной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зывается ситуация, которая угрожает жизни, здоровью, имуществу человека или природной сред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проходит и дня, чтобы газеты, радио, телевидение не принесли сообщ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очередной аварии, катастрофе, стихийном бедствии, преступлении в том или ином городе, либо стра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ористы захватывают заложников, терпят бедствие пароходы и поезда, пешеходы попадают под колёса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Содержимое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Каждый из нас может оказаться в такой непредвиденной ситуации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поможет человеку , оказавшемуся в опасности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жде всего – ОН С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 на нашем уроке  три команды спасателей попробуют найти выход из предложенных  в игре опасных ситу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Содержимое 4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374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Единая дежурно-диспетчерская служб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городе страны по инициативе МЧС России создаётся Единая дежурно- диспетчерская служба, которая является составной частью городского управления Единой системы предупреждения  и ликвидации чрезвычайных ситу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картинка2"/>
          <p:cNvPicPr/>
          <p:nvPr/>
        </p:nvPicPr>
        <p:blipFill>
          <a:blip r:embed="rId1"/>
          <a:stretch/>
        </p:blipFill>
        <p:spPr>
          <a:xfrm>
            <a:off x="4648320" y="1773360"/>
            <a:ext cx="43495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ужбы экстренной помощ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4397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номера телефонов экстренных служб нужно всем, и взрослым, и детя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ы номера телефонов 01, 02, 03,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 ещё можно позвонить в Единую городскую службу спасения по стационарному  и мобильному телефо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j0289863"/>
          <p:cNvPicPr/>
          <p:nvPr/>
        </p:nvPicPr>
        <p:blipFill>
          <a:blip r:embed="rId1"/>
          <a:stretch/>
        </p:blipFill>
        <p:spPr>
          <a:xfrm>
            <a:off x="468360" y="1413000"/>
            <a:ext cx="3836880" cy="280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611280" y="522936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95280" y="5013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63640" y="429264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95280" y="429264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39-3-01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2-32-01, 0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5:41:30Z</dcterms:created>
  <dc:creator>Олег и Лена</dc:creator>
  <dc:description/>
  <dc:language>en-US</dc:language>
  <cp:lastModifiedBy>user10</cp:lastModifiedBy>
  <dcterms:modified xsi:type="dcterms:W3CDTF">2017-04-18T10:04:37Z</dcterms:modified>
  <cp:revision>81</cp:revision>
  <dc:subject/>
  <dc:title>«Чтобы выжить»</dc:title>
</cp:coreProperties>
</file>