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3.jpeg" ContentType="image/jpeg"/>
  <Override PartName="/ppt/media/image2.gif" ContentType="image/gif"/>
  <Override PartName="/ppt/media/image15.gif" ContentType="image/gif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10.gif" ContentType="image/gif"/>
  <Override PartName="/ppt/media/image8.gif" ContentType="image/gif"/>
  <Override PartName="/ppt/media/image13.gif" ContentType="image/gif"/>
  <Override PartName="/ppt/media/image11.jpeg" ContentType="image/jpeg"/>
  <Override PartName="/ppt/media/image9.jpeg" ContentType="image/jpeg"/>
  <Override PartName="/ppt/media/image12.gif" ContentType="image/gif"/>
  <Override PartName="/ppt/media/image30.jpeg" ContentType="image/jpeg"/>
  <Override PartName="/ppt/media/image25.gif" ContentType="image/gif"/>
  <Override PartName="/ppt/media/image6.jpeg" ContentType="image/jpeg"/>
  <Override PartName="/ppt/media/image28.png" ContentType="image/png"/>
  <Override PartName="/ppt/media/image7.jpeg" ContentType="image/jpeg"/>
  <Override PartName="/ppt/media/image5.gif" ContentType="image/gif"/>
  <Override PartName="/ppt/media/image31.png" ContentType="image/png"/>
  <Override PartName="/ppt/media/image1.png" ContentType="image/png"/>
  <Override PartName="/ppt/media/image19.gif" ContentType="image/gif"/>
  <Override PartName="/ppt/media/image21.gif" ContentType="image/gif"/>
  <Override PartName="/ppt/media/image14.gif" ContentType="image/gif"/>
  <Override PartName="/ppt/media/image16.gif" ContentType="image/gif"/>
  <Override PartName="/ppt/media/image17.gif" ContentType="image/gif"/>
  <Override PartName="/ppt/media/image24.jpeg" ContentType="image/jpeg"/>
  <Override PartName="/ppt/media/image22.png" ContentType="image/png"/>
  <Override PartName="/ppt/media/image18.gif" ContentType="image/gif"/>
  <Override PartName="/ppt/media/image20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57D4-CB5A-4649-92EA-C03581142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328E-460D-403C-9E2A-409AB366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6491-6307-44A9-A9B2-47B2AFDDE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CE56-AC1D-47B6-81FF-8EB931B27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61BB-92C1-42B9-9E4A-D21E0019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512B-00CA-41B6-96E1-3482C138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DC2F-7B1F-40C2-B062-9F965D86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2330-4C5F-465C-A747-7EE11815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CD8D-ED7C-4475-A69A-E402628F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C622-5744-43CE-99EA-AE220A94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E6F5-507D-4621-84C3-5734002D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36A5-EE88-43DE-B789-D6420245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AFBC-E178-45A0-A7F6-8EA45CBCE1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619280" y="2060640"/>
            <a:ext cx="56894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d60093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ЖАРНАЯ</a:t>
            </a:r>
            <a:endParaRPr b="0" lang="en-US" sz="1800" spc="1" strike="noStrike">
              <a:ln w="9360">
                <a:solidFill>
                  <a:srgbClr val="d60093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d60093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БЕЗОПАСНОСТЬ</a:t>
            </a:r>
            <a:endParaRPr b="0" lang="en-US" sz="1800" spc="1" strike="noStrike">
              <a:ln w="9360">
                <a:solidFill>
                  <a:srgbClr val="d60093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Немного истор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457280"/>
            <a:ext cx="44956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 статистических данных, опубликованных в Санкт-Петербурге в 1912 году, подчеркивается, что деревни России почти полностью выгорали каждую четверть века. За полвека, с 1860 по 1910, только в европейской части России было официально зарегистрировано 2 миллиона пожаров, которыми уничтожено свыше 6,5 миллионов крестьянских дворов, чем причинен ущерб на несколько миллиардов рублей золо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С 12 по 19 век Москва выгорала частично или полностью около 60 ра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pozarniki_zal1_2"/>
          <p:cNvPicPr/>
          <p:nvPr/>
        </p:nvPicPr>
        <p:blipFill>
          <a:blip r:embed="rId1"/>
          <a:stretch/>
        </p:blipFill>
        <p:spPr>
          <a:xfrm>
            <a:off x="4643280" y="1630440"/>
            <a:ext cx="432144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1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5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ЗАГАД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human21"/>
          <p:cNvPicPr/>
          <p:nvPr/>
        </p:nvPicPr>
        <p:blipFill>
          <a:blip r:embed="rId1"/>
          <a:stretch/>
        </p:blipFill>
        <p:spPr>
          <a:xfrm>
            <a:off x="3324240" y="2205000"/>
            <a:ext cx="2098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8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56760" y="856800"/>
            <a:ext cx="425916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В маленьком амбар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лежит сто пожаров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C:\Documents and Settings\111\Desktop\пожар.jpg"/>
          <p:cNvPicPr/>
          <p:nvPr/>
        </p:nvPicPr>
        <p:blipFill>
          <a:blip r:embed="rId1"/>
          <a:stretch/>
        </p:blipFill>
        <p:spPr>
          <a:xfrm>
            <a:off x="5072040" y="1357200"/>
            <a:ext cx="305604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9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9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тоит столбо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горит огнём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ни жар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ни пар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ни угольев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0029"/>
          <p:cNvPicPr/>
          <p:nvPr/>
        </p:nvPicPr>
        <p:blipFill>
          <a:blip r:embed="rId1"/>
          <a:stretch/>
        </p:blipFill>
        <p:spPr>
          <a:xfrm>
            <a:off x="6084720" y="476280"/>
            <a:ext cx="1890720" cy="2521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Рисунок4"/>
          <p:cNvPicPr/>
          <p:nvPr/>
        </p:nvPicPr>
        <p:blipFill>
          <a:blip r:embed="rId2"/>
          <a:stretch/>
        </p:blipFill>
        <p:spPr>
          <a:xfrm>
            <a:off x="4716360" y="3500280"/>
            <a:ext cx="174960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9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9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9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9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9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85840" y="571680"/>
            <a:ext cx="4363920" cy="57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И мал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И зл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Чуть свеч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А иногда так упад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Что много горя принес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light79"/>
          <p:cNvPicPr/>
          <p:nvPr/>
        </p:nvPicPr>
        <p:blipFill>
          <a:blip r:embed="rId1"/>
          <a:stretch/>
        </p:blipFill>
        <p:spPr>
          <a:xfrm>
            <a:off x="5364000" y="1916280"/>
            <a:ext cx="2880000" cy="25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9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9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9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9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9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9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55640" y="1773360"/>
            <a:ext cx="43164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Красненький петушок </a:t>
            </a:r>
            <a:br>
              <a:rPr sz="3600"/>
            </a:b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по улице бежит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lsoemv"/>
          <p:cNvPicPr/>
          <p:nvPr/>
        </p:nvPicPr>
        <p:blipFill>
          <a:blip r:embed="rId1"/>
          <a:stretch/>
        </p:blipFill>
        <p:spPr>
          <a:xfrm>
            <a:off x="5635800" y="1197000"/>
            <a:ext cx="31114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9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9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24000" y="1700280"/>
            <a:ext cx="46195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Жевать - не жую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А всё поедаю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j0236357"/>
          <p:cNvPicPr/>
          <p:nvPr/>
        </p:nvPicPr>
        <p:blipFill>
          <a:blip r:embed="rId1"/>
          <a:stretch/>
        </p:blipFill>
        <p:spPr>
          <a:xfrm>
            <a:off x="5737320" y="1844640"/>
            <a:ext cx="2646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9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9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9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Причины пожар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Рисунок1"/>
          <p:cNvPicPr/>
          <p:nvPr/>
        </p:nvPicPr>
        <p:blipFill>
          <a:blip r:embed="rId1"/>
          <a:stretch/>
        </p:blipFill>
        <p:spPr>
          <a:xfrm>
            <a:off x="3157560" y="3141720"/>
            <a:ext cx="24051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0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43164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еосторожное обращение с огнё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арушение правил эксплуатации электроприборов и электрооборуд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замыкание электропровод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оставленные кост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утечка газ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оставленная свеч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евнимательность в обращении с пиротехническими средст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брошенная сигаре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мол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ga_lghtlft"/>
          <p:cNvPicPr/>
          <p:nvPr/>
        </p:nvPicPr>
        <p:blipFill>
          <a:blip r:embed="rId1"/>
          <a:stretch/>
        </p:blipFill>
        <p:spPr>
          <a:xfrm>
            <a:off x="7451640" y="476280"/>
            <a:ext cx="1365480" cy="2087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light80"/>
          <p:cNvPicPr/>
          <p:nvPr/>
        </p:nvPicPr>
        <p:blipFill>
          <a:blip r:embed="rId2"/>
          <a:stretch/>
        </p:blipFill>
        <p:spPr>
          <a:xfrm>
            <a:off x="7451640" y="4508640"/>
            <a:ext cx="1459080" cy="2160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light8"/>
          <p:cNvPicPr/>
          <p:nvPr/>
        </p:nvPicPr>
        <p:blipFill>
          <a:blip r:embed="rId3"/>
          <a:stretch/>
        </p:blipFill>
        <p:spPr>
          <a:xfrm>
            <a:off x="5219640" y="2781360"/>
            <a:ext cx="2737080" cy="1665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3" descr="j0286720"/>
          <p:cNvPicPr/>
          <p:nvPr/>
        </p:nvPicPr>
        <p:blipFill>
          <a:blip r:embed="rId4"/>
          <a:stretch/>
        </p:blipFill>
        <p:spPr>
          <a:xfrm>
            <a:off x="4500720" y="4869000"/>
            <a:ext cx="2447640" cy="1803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4" descr="ПОЖАР"/>
          <p:cNvPicPr/>
          <p:nvPr/>
        </p:nvPicPr>
        <p:blipFill>
          <a:blip r:embed="rId5"/>
          <a:stretch/>
        </p:blipFill>
        <p:spPr>
          <a:xfrm>
            <a:off x="4716360" y="482760"/>
            <a:ext cx="216072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9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9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9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9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9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9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9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9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9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9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Не подходи к газовой пли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4032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На кухне газ у нас гор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Меня он тянет, как магн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Как мама, я хочу уме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се ручки на плите верте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И спички ловко зажига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И газ включать и выключ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Но мама строго мне сказа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- К плите чтоб руки не совал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пасно это, так и зн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Пока за мной понаблюда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Учись на кухне помога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Посуду мыть и вытира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А к газу ты не подходи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Сперва немного подраст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Рисунок1"/>
          <p:cNvPicPr/>
          <p:nvPr/>
        </p:nvPicPr>
        <p:blipFill>
          <a:blip r:embed="rId1"/>
          <a:stretch/>
        </p:blipFill>
        <p:spPr>
          <a:xfrm>
            <a:off x="4356000" y="1413000"/>
            <a:ext cx="43322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0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46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4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Огонь – друг</a:t>
            </a:r>
            <a:r>
              <a:rPr b="0" lang="ru-RU" sz="4400" spc="-1" strike="noStrike">
                <a:solidFill>
                  <a:srgbClr val="990033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Будь осторожен с открытым огнё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4680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 открытым огнём обращаться опас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е жги ты ни свечки, ни спички напрас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А если зажёг – никуда не роня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рожорливо пламя горячее, зна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о если случилось свечу урони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Бросайся огонь без заминки туши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Материей плотной, тяжёлой накр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А после залей поскорее водо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Рисунок3"/>
          <p:cNvPicPr/>
          <p:nvPr/>
        </p:nvPicPr>
        <p:blipFill>
          <a:blip r:embed="rId1"/>
          <a:stretch/>
        </p:blipFill>
        <p:spPr>
          <a:xfrm>
            <a:off x="5076720" y="1700280"/>
            <a:ext cx="382104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0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9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9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9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9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9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9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9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9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1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1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43164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е играй, дружок, со спичкой!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омни ты: она мала, 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о от спички-невелички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Может дом сгореть дотла. 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То, что спичка не игрушка,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знает каждый, знают в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е давайте спички детя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а то быть большой бе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27r6"/>
          <p:cNvPicPr/>
          <p:nvPr/>
        </p:nvPicPr>
        <p:blipFill>
          <a:blip r:embed="rId1"/>
          <a:stretch/>
        </p:blipFill>
        <p:spPr>
          <a:xfrm>
            <a:off x="5940360" y="1484280"/>
            <a:ext cx="18352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0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8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8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8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8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8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8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8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8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8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8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8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8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8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8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8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8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5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5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Опасные спутники огн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0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Ядовитый д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ысокая температу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лохая видим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аника и растерян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оражение электрическим то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Обрушение конструк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0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9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6868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Каждый из нас, заметивший пожар, должен немедленно сообщить об этом в пожарную ча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92360" y="2060640"/>
            <a:ext cx="612144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Если вдруг пожар возник, 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То звонить обязан вмиг, 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Как и всякий гражданин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 часть к пожарным “01”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Рисунок2ОЛ"/>
          <p:cNvPicPr/>
          <p:nvPr/>
        </p:nvPicPr>
        <p:blipFill>
          <a:blip r:embed="rId1"/>
          <a:stretch/>
        </p:blipFill>
        <p:spPr>
          <a:xfrm>
            <a:off x="2050920" y="4221000"/>
            <a:ext cx="44784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nodeType="clickEffect" fill="hold">
                      <p:stCondLst>
                        <p:cond delay="0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8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8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8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8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Вызов по телефону пожарной команды</a:t>
            </a:r>
            <a:r>
              <a:rPr b="0" lang="ru-RU" sz="4000" spc="-1" strike="noStrike">
                <a:solidFill>
                  <a:srgbClr val="a50021"/>
                </a:solidFill>
                <a:latin typeface="Arial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44956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Если где-то задымит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Если что-то загорит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о тревоге как оди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озвоним по 0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И ближайшему райо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озвоним по телефо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Где горит и что гор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И кто об этом говори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Рисунок1"/>
          <p:cNvPicPr/>
          <p:nvPr/>
        </p:nvPicPr>
        <p:blipFill>
          <a:blip r:embed="rId1"/>
          <a:stretch/>
        </p:blipFill>
        <p:spPr>
          <a:xfrm>
            <a:off x="5435640" y="1628640"/>
            <a:ext cx="2292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0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8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8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8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8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8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8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8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8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8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8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8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8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6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8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8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8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8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8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8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8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8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8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8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8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8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8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8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8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8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8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9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8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8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8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8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0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0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a50021"/>
                </a:solidFill>
                <a:latin typeface="Arial"/>
              </a:rPr>
              <a:t>Задача каждого суметь грамотно сообщить о пожаре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680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азвать адрес, где гори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вой номер телефон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вою фамилию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а каком этаже гори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как лучше подъехать к дому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колько подъездов в дом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E:\Рисунки gif\Дети\CHLD153.jpg"/>
          <p:cNvPicPr/>
          <p:nvPr/>
        </p:nvPicPr>
        <p:blipFill>
          <a:blip r:embed="rId1"/>
          <a:stretch/>
        </p:blipFill>
        <p:spPr>
          <a:xfrm>
            <a:off x="5003640" y="2060640"/>
            <a:ext cx="3672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0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ПРАВИЛА БЕЗОПАСНОГО ПОВЕДЕНИЯ ПРИ ПОЖАР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Расчет эвакуации людей при пожаре"/>
          <p:cNvPicPr/>
          <p:nvPr/>
        </p:nvPicPr>
        <p:blipFill>
          <a:blip r:embed="rId1"/>
          <a:stretch/>
        </p:blipFill>
        <p:spPr>
          <a:xfrm>
            <a:off x="2268360" y="3284640"/>
            <a:ext cx="4392720" cy="29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0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Немедленно покинуть здание, используя для этого основные и запасные вых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повестить окружающих об опас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Сообщить о пожаре в пожарную ча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Если очаг пожара небольшой, до прибытия пожарной команды попытайтесь потушить его имеющимися подручными средств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Сохраняйте самообладание, способность быстро оценивать обстановку и принимать правильные реш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Проходя через горящие помещения, накройтесь с головой мокрой материей, через задымлённые помещения двигайтесь ползком  или пригнувшись – меньше вероятность задохнуться в ды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Если на вас загорелась одежда, не пытайтесь бежать, а постарайтесь сбить пламя, перекатываясь на полу, или, если есть возможность, затушить вод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Для защиты от продуктов горения дышите через влажный платок, тка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При выходе из здания по задымлённой лестнице продвигайтесь вдоль ст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Если горит электропроводка, обесточьте её, после чего попытайтесь потушить горящие элемен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nodeType="clickEffect" fill="hold">
                      <p:stCondLst>
                        <p:cond delay="0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9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0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2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2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0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2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2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9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2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2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9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20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20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9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20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20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0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Проверь себ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day-worker-fire-protection"/>
          <p:cNvPicPr/>
          <p:nvPr/>
        </p:nvPicPr>
        <p:blipFill>
          <a:blip r:embed="rId1"/>
          <a:stretch/>
        </p:blipFill>
        <p:spPr>
          <a:xfrm>
            <a:off x="2124000" y="2421000"/>
            <a:ext cx="460872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nodeType="clickEffect" fill="hold">
                      <p:stCondLst>
                        <p:cond delay="0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45482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Овладение этой величайшей стихийной силой природы дало возможность человеку обеспечить себя светом и теплом. Огонь помог ему расселиться по Земле, преодолеть неблагоприятные для жизни человека климатические условия, господствующие в отдельных участках земного шара. Благодаря огню все больше и больше уменьшалась зависимость человека от при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116"/>
          <p:cNvPicPr/>
          <p:nvPr/>
        </p:nvPicPr>
        <p:blipFill>
          <a:blip r:embed="rId1"/>
          <a:stretch/>
        </p:blipFill>
        <p:spPr>
          <a:xfrm>
            <a:off x="6372360" y="76500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AG00008_"/>
          <p:cNvPicPr/>
          <p:nvPr/>
        </p:nvPicPr>
        <p:blipFill>
          <a:blip r:embed="rId2"/>
          <a:stretch/>
        </p:blipFill>
        <p:spPr>
          <a:xfrm>
            <a:off x="6300720" y="3716280"/>
            <a:ext cx="172080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ридя домой вечером, вы почувствовали запах газа. Ваши действия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Включите свет, позвоните по телефону «04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Сообщите соседям, и от них позвоните в газовую служб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Откроете окна и двери, перекроете газ. Если запах не устранится, позвоните от соседей по телефону «04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nodeType="clickEffect" fill="hold">
                      <p:stCondLst>
                        <p:cond delay="0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При приготовлении пищи загорелся жир на сковороде. Ваши действ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Выключите газ. Сковороду плотно накроете крыш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Накинете на сковороду влажную тка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Зальёте сковороду во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0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Погасло пламя в горелке. Ваши действ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Попытаетесь сразу же вновь зажечь г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Перекроете газ, а затем попытаетесь вновь зажечь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 Перекроете газ. Откроете форточку и спустя какое-то время вновь зажжёте г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nodeType="clickEffect" fill="hold">
                      <p:stCondLst>
                        <p:cond delay="0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ожар распространяется на мебель и другие предметы, а комната начинает наполняться дымом. Как вы поступи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229600" cy="40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Как можно быстрее покинете комна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Попытаетесь потушить пож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Соберете ценные вещи, украшения и покинете комнат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nodeType="clickEffect" fill="hold">
                      <p:stCondLst>
                        <p:cond delay="0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424476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Теперь я вижу, что вы знаете, что с огнем шутить опасно и всегда будете выполнять правила пожарной безопас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Рисунок2О"/>
          <p:cNvPicPr/>
          <p:nvPr/>
        </p:nvPicPr>
        <p:blipFill>
          <a:blip r:embed="rId1"/>
          <a:stretch/>
        </p:blipFill>
        <p:spPr>
          <a:xfrm>
            <a:off x="4716360" y="1125360"/>
            <a:ext cx="4038840" cy="42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nodeType="clickEffect" fill="hold">
                      <p:stCondLst>
                        <p:cond delay="0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78920" y="259920"/>
            <a:ext cx="424836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Без огня невозможна жизнь на Земле. Он нужен всюду. Огонь плавит руду, помогая человеку получить металл. Работа двигателей внутреннего сгорания, полёты реактивных лайнеров стали возможны благодаря освоению и умелому применению могучей силы ог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Рисунок14"/>
          <p:cNvPicPr/>
          <p:nvPr/>
        </p:nvPicPr>
        <p:blipFill>
          <a:blip r:embed="rId1"/>
          <a:stretch/>
        </p:blipFill>
        <p:spPr>
          <a:xfrm>
            <a:off x="5580000" y="260280"/>
            <a:ext cx="2914560" cy="2905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Рисунок21"/>
          <p:cNvPicPr/>
          <p:nvPr/>
        </p:nvPicPr>
        <p:blipFill>
          <a:blip r:embed="rId2"/>
          <a:stretch/>
        </p:blipFill>
        <p:spPr>
          <a:xfrm>
            <a:off x="5580000" y="3500280"/>
            <a:ext cx="309744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Огонь – символ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40384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 обнаженными головами люди смотрят на вечный огонь у памятников героям, беззаветно сражавшимся за Родину. Огонь, зажжённый от лучей солнца в далёкой Олимпии, несут в факельной эстафете спортсме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fier"/>
          <p:cNvPicPr/>
          <p:nvPr/>
        </p:nvPicPr>
        <p:blipFill>
          <a:blip r:embed="rId1"/>
          <a:stretch/>
        </p:blipFill>
        <p:spPr>
          <a:xfrm>
            <a:off x="6443640" y="549360"/>
            <a:ext cx="1204920" cy="2374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АННА 012"/>
          <p:cNvPicPr/>
          <p:nvPr/>
        </p:nvPicPr>
        <p:blipFill>
          <a:blip r:embed="rId2"/>
          <a:stretch/>
        </p:blipFill>
        <p:spPr>
          <a:xfrm>
            <a:off x="5364000" y="3789360"/>
            <a:ext cx="334980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Огонь – вра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40384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Тысячи сел и городов исчезли в гигантских языках пламени. Люди научились добывать и сохранять огонь. Однако, выйдя из-под контроля человека, он превращается в страшное бедствие-пожа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pozarniki_zal1_1"/>
          <p:cNvPicPr/>
          <p:nvPr/>
        </p:nvPicPr>
        <p:blipFill>
          <a:blip r:embed="rId1"/>
          <a:stretch/>
        </p:blipFill>
        <p:spPr>
          <a:xfrm>
            <a:off x="4788000" y="1773360"/>
            <a:ext cx="417672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Что такое пожар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Пожар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– это стихийное распространение огня, вышедшего из-под контроля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27r2"/>
          <p:cNvPicPr/>
          <p:nvPr/>
        </p:nvPicPr>
        <p:blipFill>
          <a:blip r:embed="rId1"/>
          <a:stretch/>
        </p:blipFill>
        <p:spPr>
          <a:xfrm>
            <a:off x="5508720" y="2286000"/>
            <a:ext cx="316692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8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14:38:12Z</dcterms:created>
  <dc:creator/>
  <dc:description/>
  <dc:language>en-US</dc:language>
  <cp:lastModifiedBy>user10</cp:lastModifiedBy>
  <dcterms:modified xsi:type="dcterms:W3CDTF">2017-04-21T09:47:50Z</dcterms:modified>
  <cp:revision>15</cp:revision>
  <dc:subject/>
  <dc:title>Презентация PowerPoint</dc:title>
</cp:coreProperties>
</file>