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1.jpeg" ContentType="image/jpeg"/>
  <Override PartName="/ppt/media/image20.png" ContentType="image/pn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DFE0-0FF2-4715-A8EC-1E777F718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676A-6D3E-4586-A0FE-7002994F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2584-F512-4591-ACFC-B2F021574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D569-25AE-401D-9DD0-4671F4F65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8E71-DD39-4754-9BA9-F9DB31D6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697C-49B7-4757-B3D4-2108BB20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4E69-9CB0-4418-8FF9-F1E6EC0D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8718-EF43-45DC-AD30-6018D149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9B67-B535-4044-B955-C4E668EB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55B1-044C-48B9-B2EC-648DB1BA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620F-70B8-4E03-B0A7-7C30E216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B8E2-BE7D-413D-924A-A7B43079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D43D-DF36-46A2-946D-3F43F8E8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D9E1-52BB-4FAB-BFBD-E26230AC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7B98-BD79-43DF-99A2-A7B4BE8B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80A9-812A-474C-9B3B-7A55952E9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5C77-669C-4F29-8DB4-36D471C8B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F3E3-C075-458F-8839-0BC20476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D718-FC66-46C4-A02F-4C453187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5A44-0C65-46D0-A62B-DE0FAC1C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E1E3-C950-43F3-8298-D52E3269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79A1-CA87-481C-A24F-28568379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00C3-5AEF-4FA6-A072-D20C3925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3DA6-C82A-4638-86B4-5E732CBE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A3A7-C5FB-4911-AC40-1E9A0A61ACE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8A37-4640-4034-B8C6-257632C71BA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5;&#1094;&#1080;&#1087;%20&#1088;&#1072;&#1073;&#1086;&#1090;&#1099;%20&#1087;&#1088;&#1086;&#1090;&#1080;&#1074;&#1086;&#1075;&#1072;&#1079;&#1072;.ppt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3573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617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lang="en-US" sz="4400" spc="-1" strike="noStrike">
                <a:solidFill>
                  <a:srgbClr val="330066"/>
                </a:solidFill>
                <a:latin typeface="Arial"/>
              </a:rPr>
              <a:t>РЕДСТВА</a:t>
            </a:r>
            <a:br>
              <a:rPr sz="4400"/>
            </a:b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en-US" sz="4400" spc="-1" strike="noStrike">
                <a:solidFill>
                  <a:srgbClr val="330066"/>
                </a:solidFill>
                <a:latin typeface="Arial"/>
              </a:rPr>
              <a:t>НДИВИДУАЛЬНОЙ</a:t>
            </a:r>
            <a:br>
              <a:rPr sz="4400"/>
            </a:b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0" lang="en-US" sz="4400" spc="-1" strike="noStrike">
                <a:solidFill>
                  <a:srgbClr val="330066"/>
                </a:solidFill>
                <a:latin typeface="Arial"/>
              </a:rPr>
              <a:t>АЩИТЫ НАСЕЛЕНИЯ</a:t>
            </a: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Гражданские противогазы и респираторы  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едназначены для формирований гражданской обороны и населения. Представляют собой несколько упрощенные по конструкции  средства защиты для личного состава В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Промышленные противогазы  и респираторы 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едназначены для защиты работающего персонала промышленного объекта от воздействия  конкретного АХ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х устройство разнообразно и определяется особенностями производственной деятельности предприятия и характером возможной на нем аварийной ситуа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ринцип действия противогаз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Принцип действия противогазов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стоит в следующем. Для дыхания используется наружный зараженный воздух, который очищается от вредных примесей, проходя через фильтрующе-поглощающую коробку. В шлем-маску противогаза поступает уже очищенный воздух. Выдыхаемый воздух выводится из шлема-маски наружу через специальный клапа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24000" y="2925720"/>
            <a:ext cx="2592360" cy="1440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66"/>
                </a:solidFill>
                <a:latin typeface="Arial"/>
              </a:rPr>
              <a:t>Для взрослого на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ГП-5, (ГП-5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ГП-7, (ГП-7В, ГП-7ВМ)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0" y="2925720"/>
            <a:ext cx="2664000" cy="17272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66"/>
                </a:solidFill>
                <a:latin typeface="Arial"/>
              </a:rPr>
              <a:t>Для детей с 1,5 до 17 лет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ПДФ-7</a:t>
            </a:r>
            <a:br>
              <a:rPr sz="1600"/>
            </a:br>
            <a:r>
              <a:rPr b="0" lang="en-US" sz="1400" spc="-1" strike="noStrike">
                <a:solidFill>
                  <a:srgbClr val="330066"/>
                </a:solidFill>
                <a:latin typeface="Arial"/>
              </a:rPr>
              <a:t>Для детей с 1,5 до 7 лет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ПДФ-2Д</a:t>
            </a:r>
            <a:br>
              <a:rPr sz="1600"/>
            </a:br>
            <a:r>
              <a:rPr b="0" lang="en-US" sz="1400" spc="-1" strike="noStrike">
                <a:solidFill>
                  <a:srgbClr val="330066"/>
                </a:solidFill>
                <a:latin typeface="Arial"/>
              </a:rPr>
              <a:t>Для детей с 1,5 до 7 лет</a:t>
            </a:r>
            <a:br>
              <a:rPr sz="14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•ПДФ-2Ш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56360" y="2924280"/>
            <a:ext cx="2663640" cy="151272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66"/>
                </a:solidFill>
                <a:latin typeface="Arial"/>
              </a:rPr>
              <a:t>Для детей до 1,5 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камера защитная детс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КЗД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КЗД-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30560" y="1052640"/>
            <a:ext cx="2881440" cy="9363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Граждан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противога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205" idx="0"/>
            <a:endCxn id="207" idx="0"/>
          </p:cNvCxnSpPr>
          <p:nvPr/>
        </p:nvCxnSpPr>
        <p:spPr>
          <a:xfrm flipH="1" flipV="1" rot="5400000">
            <a:off x="4553280" y="-9360"/>
            <a:ext cx="2160" cy="5868360"/>
          </a:xfrm>
          <a:prstGeom prst="bentConnector3">
            <a:avLst>
              <a:gd name="adj1" fmla="val 145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0" name=""/>
          <p:cNvCxnSpPr>
            <a:stCxn id="208" idx="2"/>
            <a:endCxn id="206" idx="0"/>
          </p:cNvCxnSpPr>
          <p:nvPr/>
        </p:nvCxnSpPr>
        <p:spPr>
          <a:xfrm>
            <a:off x="4571640" y="1989000"/>
            <a:ext cx="1080" cy="93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2592360" y="623736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иды гражданских противог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Защитные свойства фильтрующих противогазов от АХОВ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3960" y="1417680"/>
          <a:ext cx="8001000" cy="5261040"/>
        </p:xfrm>
        <a:graphic>
          <a:graphicData uri="http://schemas.openxmlformats.org/drawingml/2006/table">
            <a:tbl>
              <a:tblPr/>
              <a:tblGrid>
                <a:gridCol w="1611360"/>
                <a:gridCol w="1323720"/>
                <a:gridCol w="1959120"/>
                <a:gridCol w="1549440"/>
                <a:gridCol w="1557360"/>
              </a:tblGrid>
              <a:tr h="353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АХО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я мг/л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защитного действ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ога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огаз + ДПГ-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огаз + ДПГ-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метиламин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ил хлористы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этилен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яная кислот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р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илмеркаптан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 Unicode MS"/>
              </a:rPr>
              <a:t>ДОПОЛНИТЕЛЬНЫЕ (ГОПКАЛИТОВЫЕ) ПАТРОН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целях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расширения возможносте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противогаз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по защите от различных АХОВ и повышения защитных свойст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настоящее время промышленностью изготавливаются специальные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ополнительные гопкалитовые патроны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П-1, ДП-2, ДПГ-1, ДПГ-3 и ПЗУ-П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592360" y="692280"/>
            <a:ext cx="3960720" cy="4330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ОПОЛНИТЕЛЬНЫЕ (ГОПКАЛИТОВЫЕ) ПАТР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9640" y="2492280"/>
            <a:ext cx="2016360" cy="8636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ля защиты от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иси угле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132000" y="2492280"/>
            <a:ext cx="2880000" cy="3311640"/>
          </a:xfrm>
          <a:custGeom>
            <a:avLst/>
            <a:gdLst>
              <a:gd name="textAreaLeft" fmla="*/ 140400 w 2880000"/>
              <a:gd name="textAreaRight" fmla="*/ 2739600 w 2880000"/>
              <a:gd name="textAreaTop" fmla="*/ 140400 h 3311640"/>
              <a:gd name="textAreaBottom" fmla="*/ 3171240 h 3311640"/>
            </a:gdLst>
            <a:ahLst/>
            <a:rect l="textAreaLeft" t="textAreaTop" r="textAreaRight" b="textAreaBottom"/>
            <a:pathLst>
              <a:path w="21600" h="24837">
                <a:moveTo>
                  <a:pt x="3600" y="0"/>
                </a:moveTo>
                <a:arcTo wR="3600" hR="3600" stAng="16200000" swAng="-5400000"/>
                <a:lnTo>
                  <a:pt x="0" y="21237"/>
                </a:lnTo>
                <a:arcTo wR="3600" hR="3600" stAng="10800000" swAng="-5400000"/>
                <a:lnTo>
                  <a:pt x="18000" y="248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238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ля защиты от АХ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238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238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ммиака,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38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енол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38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иметиламина,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38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сге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38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итробензола,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38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лор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38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роводорода,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38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лорист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38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роуглерода,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38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дород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38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нильной кисл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516720" y="2492280"/>
            <a:ext cx="2303280" cy="20890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для защиты от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киси углерода, АХ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спользуется к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комплекте 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тивогазо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к и только с лицев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тью противога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"/>
          <p:cNvCxnSpPr>
            <a:stCxn id="217" idx="0"/>
            <a:endCxn id="219" idx="0"/>
          </p:cNvCxnSpPr>
          <p:nvPr/>
        </p:nvCxnSpPr>
        <p:spPr>
          <a:xfrm flipH="1" rot="16200000">
            <a:off x="4607280" y="-568800"/>
            <a:ext cx="2520" cy="6122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1" name=""/>
          <p:cNvCxnSpPr>
            <a:stCxn id="216" idx="2"/>
            <a:endCxn id="218" idx="0"/>
          </p:cNvCxnSpPr>
          <p:nvPr/>
        </p:nvCxnSpPr>
        <p:spPr>
          <a:xfrm flipH="1">
            <a:off x="4571640" y="1125000"/>
            <a:ext cx="2160" cy="1367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2" name=""/>
          <p:cNvSpPr/>
          <p:nvPr/>
        </p:nvSpPr>
        <p:spPr>
          <a:xfrm>
            <a:off x="3564000" y="1557360"/>
            <a:ext cx="2016000" cy="4334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ПГ-1, ДПГ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1557360"/>
            <a:ext cx="2016360" cy="4334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П-1,ДП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8000" y="1557360"/>
            <a:ext cx="2016360" cy="4334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ЗУ-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08000" y="609300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значение и защитные свойства дополнительных патр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ротивогазы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402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П-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П-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781600" y="1820880"/>
            <a:ext cx="1941480" cy="21096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rcRect l="0" t="0" r="0" b="25761"/>
          <a:stretch/>
        </p:blipFill>
        <p:spPr>
          <a:xfrm>
            <a:off x="5796000" y="4005360"/>
            <a:ext cx="19065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402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ФП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фильтрующе-поглощающая коробка противогаз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292720" y="2239920"/>
            <a:ext cx="31528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Правило использования противогаз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3508200" cy="43196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979640" y="1341360"/>
            <a:ext cx="3436920" cy="42483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1979640" y="1341360"/>
            <a:ext cx="3562200" cy="43196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1979640" y="1341360"/>
            <a:ext cx="3524400" cy="43196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1979640" y="1341360"/>
            <a:ext cx="3564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0066"/>
                </a:solidFill>
                <a:latin typeface="Arial"/>
              </a:rPr>
              <a:t>Назначение и классификация СИЗ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34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4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ля защиты организма человека от вредного воздейств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ХОВ,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О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Р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БС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14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ля снижения нежелательных эффектов светового, теплового и ионизирующего излуч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844720" y="981000"/>
            <a:ext cx="3456000" cy="72072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СПИР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0920" y="2276640"/>
            <a:ext cx="2592360" cy="20890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назначению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отивопылев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отивогазов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газопылезащит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60720" y="2276640"/>
            <a:ext cx="3024000" cy="20890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о устройств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полумаска и фильтрующ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элемент служат лице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ча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очищающие воздух в фильтрующ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патронах, присоединяем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к полумас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00720" y="2276640"/>
            <a:ext cx="2590920" cy="20872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о сроку служб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одноразов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приме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многоразов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исполь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предусмотрена замена фильтров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"/>
          <p:cNvCxnSpPr>
            <a:stCxn id="240" idx="0"/>
            <a:endCxn id="242" idx="0"/>
          </p:cNvCxnSpPr>
          <p:nvPr/>
        </p:nvCxnSpPr>
        <p:spPr>
          <a:xfrm flipH="1" rot="16200000">
            <a:off x="4571280" y="-747360"/>
            <a:ext cx="2160" cy="6049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4" name=""/>
          <p:cNvCxnSpPr>
            <a:stCxn id="239" idx="2"/>
            <a:endCxn id="241" idx="0"/>
          </p:cNvCxnSpPr>
          <p:nvPr/>
        </p:nvCxnSpPr>
        <p:spPr>
          <a:xfrm>
            <a:off x="4573080" y="1701360"/>
            <a:ext cx="1080" cy="57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5" name=""/>
          <p:cNvSpPr/>
          <p:nvPr/>
        </p:nvSpPr>
        <p:spPr>
          <a:xfrm>
            <a:off x="1042920" y="494172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спираторы применяются для защиты органов дыхания от вредных газов, паров, аэрозолей и пы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3. Респираторы (противопылевые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402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еспиратор Р-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еспиратор типа «Лепесток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145120" y="1817640"/>
            <a:ext cx="3100320" cy="18352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5487840" y="3860640"/>
            <a:ext cx="246888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6840" y="1719360"/>
            <a:ext cx="40402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еспиратор «КАМА», У2-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0" b="21081"/>
          <a:stretch/>
        </p:blipFill>
        <p:spPr>
          <a:xfrm>
            <a:off x="4726080" y="1197000"/>
            <a:ext cx="3862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Соответствие высоты лица и роста респиратора Р-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457200" y="2239920"/>
          <a:ext cx="8229240" cy="2187360"/>
        </p:xfrm>
        <a:graphic>
          <a:graphicData uri="http://schemas.openxmlformats.org/drawingml/2006/table">
            <a:tbl>
              <a:tblPr/>
              <a:tblGrid>
                <a:gridCol w="3251520"/>
                <a:gridCol w="1439640"/>
                <a:gridCol w="1481760"/>
                <a:gridCol w="2056320"/>
              </a:tblGrid>
              <a:tr h="91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та лица, мм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-10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-1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 и боле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тветствующий высоте лица рост (размер) респиратора Р-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611280" y="45813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подбора респиратора Р-2 по размеру нужно знать высоту лица, то есть расстояние между точкой наибольшего углубления на переносье и самой нижней точкой подбородка. В соответствии с измеренной высотой лица выбирается рост респират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Простейшие и подручные СИЗ органов дыхания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402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МП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ватно-марлевая повязк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Изготовление ВМ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4641840" y="1746360"/>
            <a:ext cx="4040280" cy="2205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26052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755640" y="549360"/>
            <a:ext cx="7416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тно-марлевая повязка изготавливается следующим образ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рут кусок марли размером 100 на 50 с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его середину кладут ровный слой ваты размером 30 на 20 см и толщиной примерно 2 с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лю с обеих сторон загибают, закрывая ею ва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бодные от ваты концы марли надрезают посредине ножницами так, чтобы образовались две пары завяз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язки закрепляют стежками ниток (обшиваю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есть марля, но нет ваты, можно изготовить марлевую повязку. Для этого вместо ваты на середину куска укладывают пять-шесть слоев мар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тно-марлевая повязка при использовании накладывается так, чтобы нижний край ее закрывал низ подбородка, а верхний доходил до глазных впадин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этом должны хорошо закрываться рот и нос. Разрезанные концы повязки завязываются: сначала верхние - на затылке за ушами, затем нижние - на темени. Для защиты глаз используют специальные противопыльные очки различного устройства. Очки можно сделать и сам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>
            <a:off x="1692360" y="602136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10800"/>
                </a:moveTo>
                <a:lnTo>
                  <a:pt x="23193" y="3794"/>
                </a:lnTo>
                <a:lnTo>
                  <a:pt x="23193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7451640" y="595008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11021" y="3794"/>
                </a:moveTo>
                <a:lnTo>
                  <a:pt x="25033" y="10800"/>
                </a:lnTo>
                <a:lnTo>
                  <a:pt x="11021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Простейшие и подручные СИЗ органов дыхания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402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аска ПТМ-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противопыльная тканевая маск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Изготовление ПТ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3348000" y="1557360"/>
            <a:ext cx="2376360" cy="18511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5796000" y="1557360"/>
            <a:ext cx="298116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403280" y="907920"/>
            <a:ext cx="633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ска ПТМ-1 состоит из двух основных частей - корпуса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репления (см. слайд «ПТМ-1»)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корпусе прорезаны смотровые отверстия, в которые вставляются стекла или пластины из прозрачного материала (плексигласа, целлулоида). Корпус маски изготавливается из четырех-пяти слоев ткани: два-три внутренних слоя - из плотных тканей (фланель, байка), верхний - из неплотной - (штапель, трикотаж). Крепление делается из одного слоя любой тка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" action="ppaction://hlinkshowjump?jump=previousslide"/>
          </p:cNvPr>
          <p:cNvSpPr/>
          <p:nvPr/>
        </p:nvSpPr>
        <p:spPr>
          <a:xfrm>
            <a:off x="1763640" y="54450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10800"/>
                </a:moveTo>
                <a:lnTo>
                  <a:pt x="26408" y="3794"/>
                </a:lnTo>
                <a:lnTo>
                  <a:pt x="26408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>
            <a:hlinkClick r:id="" action="ppaction://hlinkshowjump?jump=nextslide"/>
          </p:cNvPr>
          <p:cNvSpPr/>
          <p:nvPr/>
        </p:nvSpPr>
        <p:spPr>
          <a:xfrm>
            <a:off x="6732720" y="530064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21" h="21600">
                <a:moveTo>
                  <a:pt x="14504" y="3794"/>
                </a:moveTo>
                <a:lnTo>
                  <a:pt x="28517" y="10800"/>
                </a:lnTo>
                <a:lnTo>
                  <a:pt x="14504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Изолирующие СИЗОД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987640" y="692280"/>
            <a:ext cx="3168720" cy="6476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Изолирующие СИЗ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0066"/>
                </a:solidFill>
                <a:latin typeface="Arial"/>
              </a:rPr>
              <a:t>Назначение, принцип действия, модели ИП</a:t>
            </a:r>
            <a:endParaRPr b="1" lang="en-US" sz="1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908000" y="1773360"/>
            <a:ext cx="1872000" cy="6476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Изолирующ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противога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95280" y="2637000"/>
            <a:ext cx="2376360" cy="6476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На основе химичес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связанного кислор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5280" y="3573360"/>
            <a:ext cx="2376360" cy="15843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ИП-4, ИП-4М,ИП-4М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для работы на суш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ИП-5 для рабо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под вод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916360" y="2637000"/>
            <a:ext cx="1800000" cy="6476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Работающие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сжатом кислоро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916360" y="3573360"/>
            <a:ext cx="1800000" cy="1008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КИП-8, КИП-9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АП-96,АП-2000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ИВА-24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76720" y="1844640"/>
            <a:ext cx="1800360" cy="6476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Самоспасател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4360" y="1844640"/>
            <a:ext cx="1800360" cy="6476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Шлангов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противогаз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076720" y="2637000"/>
            <a:ext cx="1800360" cy="8632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СПИ-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ПДУ-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66"/>
                </a:solidFill>
                <a:latin typeface="Arial"/>
              </a:rPr>
              <a:t>СПИ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2" idx="0"/>
            <a:endCxn id="278" idx="0"/>
          </p:cNvCxnSpPr>
          <p:nvPr/>
        </p:nvCxnSpPr>
        <p:spPr>
          <a:xfrm flipH="1" rot="16200000">
            <a:off x="5418720" y="-801000"/>
            <a:ext cx="72000" cy="5220360"/>
          </a:xfrm>
          <a:prstGeom prst="bentConnector3">
            <a:avLst>
              <a:gd name="adj1" fmla="val -31959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" name=""/>
          <p:cNvCxnSpPr>
            <a:stCxn id="270" idx="2"/>
          </p:cNvCxnSpPr>
          <p:nvPr/>
        </p:nvCxnSpPr>
        <p:spPr>
          <a:xfrm>
            <a:off x="4571640" y="133992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2" name=""/>
          <p:cNvCxnSpPr>
            <a:stCxn id="277" idx="0"/>
          </p:cNvCxnSpPr>
          <p:nvPr/>
        </p:nvCxnSpPr>
        <p:spPr>
          <a:xfrm flipV="1">
            <a:off x="5976720" y="155700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3" name=""/>
          <p:cNvCxnSpPr>
            <a:stCxn id="272" idx="2"/>
            <a:endCxn id="273" idx="0"/>
          </p:cNvCxnSpPr>
          <p:nvPr/>
        </p:nvCxnSpPr>
        <p:spPr>
          <a:xfrm flipH="1">
            <a:off x="1583640" y="2421000"/>
            <a:ext cx="126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72" idx="2"/>
            <a:endCxn id="275" idx="0"/>
          </p:cNvCxnSpPr>
          <p:nvPr/>
        </p:nvCxnSpPr>
        <p:spPr>
          <a:xfrm>
            <a:off x="2844360" y="2421000"/>
            <a:ext cx="9723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3" idx="2"/>
            <a:endCxn id="274" idx="0"/>
          </p:cNvCxnSpPr>
          <p:nvPr/>
        </p:nvCxnSpPr>
        <p:spPr>
          <a:xfrm>
            <a:off x="1584000" y="328464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5" idx="2"/>
            <a:endCxn id="276" idx="0"/>
          </p:cNvCxnSpPr>
          <p:nvPr/>
        </p:nvCxnSpPr>
        <p:spPr>
          <a:xfrm>
            <a:off x="3816000" y="328464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7" idx="2"/>
            <a:endCxn id="279" idx="0"/>
          </p:cNvCxnSpPr>
          <p:nvPr/>
        </p:nvCxnSpPr>
        <p:spPr>
          <a:xfrm>
            <a:off x="5976720" y="2492280"/>
            <a:ext cx="108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лассификация СИЗ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1700280"/>
            <a:ext cx="822960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9280" y="1844640"/>
            <a:ext cx="4105440" cy="1008000"/>
          </a:xfrm>
          <a:prstGeom prst="flowChartAlternate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59280" y="205740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66"/>
                </a:solidFill>
                <a:latin typeface="Arial"/>
              </a:rPr>
              <a:t>С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6560" y="3573360"/>
            <a:ext cx="2737080" cy="790560"/>
          </a:xfrm>
          <a:prstGeom prst="flowChartAlternateProcess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393372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СИЗ органов дыхания(СИЗ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92360" y="3573360"/>
            <a:ext cx="2160720" cy="790560"/>
          </a:xfrm>
          <a:prstGeom prst="flowChartAlternate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38920" y="3573360"/>
            <a:ext cx="2736720" cy="790560"/>
          </a:xfrm>
          <a:prstGeom prst="flowChartAlternate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35280" y="3789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СИЗ ко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84720" y="3789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Медицинские С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55" idx="2"/>
            <a:endCxn id="157" idx="0"/>
          </p:cNvCxnSpPr>
          <p:nvPr/>
        </p:nvCxnSpPr>
        <p:spPr>
          <a:xfrm flipH="1">
            <a:off x="1835280" y="2852640"/>
            <a:ext cx="273708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5" idx="2"/>
            <a:endCxn id="161" idx="0"/>
          </p:cNvCxnSpPr>
          <p:nvPr/>
        </p:nvCxnSpPr>
        <p:spPr>
          <a:xfrm>
            <a:off x="4572000" y="2852640"/>
            <a:ext cx="273600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5" idx="2"/>
            <a:endCxn id="160" idx="0"/>
          </p:cNvCxnSpPr>
          <p:nvPr/>
        </p:nvCxnSpPr>
        <p:spPr>
          <a:xfrm>
            <a:off x="4572000" y="2852640"/>
            <a:ext cx="216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539640" y="148428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 назнач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4707000"/>
            <a:ext cx="36734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 способу изготовлен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пускаемые промышленностью (табельны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зготовляемые населе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16360" y="4724280"/>
            <a:ext cx="3888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 принципу защитного действ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ильтрующ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золирующ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Изолирующие СИЗОД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4028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П-4М (изолирующий противогаз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497560" y="1889280"/>
            <a:ext cx="2521080" cy="38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амоспасатели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402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68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И-20 (самоспасатель изолирующий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экстренной защиты органов дыхания и зрения при эвакуации в условиях пожара из зданий. Время защитного действия при эвакуации – не менее 20, в ожидании помощи – не менее 40 м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659640" y="1413000"/>
            <a:ext cx="2047680" cy="20872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4716000" y="1413000"/>
            <a:ext cx="4038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амоспасатели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3322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6036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И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амоспасатель изолирующий противопожарный обеспечивает защиту не менее 20мин. От вредных веществ, независимо от их концентрации, защиту головы  от кратковременного воздействия открытого пламени с температурой до 85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. Существует возможность речевого общ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rcRect l="0" t="0" r="0" b="7128"/>
          <a:stretch/>
        </p:blipFill>
        <p:spPr>
          <a:xfrm>
            <a:off x="5111640" y="2371680"/>
            <a:ext cx="310860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 изолирующим средствам защиты органов дыхания (СИЗОД) относятся также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шланговые противогазы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которые обеспечивают органы дыхания чистым воздухом с помощью вентиляторов или компрессоров через соединительные шланги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ни используются главным образом при выполнении работ по ремонту и очистке различных емкостей, цистерн, подвальных и других замкнутых помещений, где в больших концентрациях могут скапливаться опасные химические вещест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6588000" y="404640"/>
            <a:ext cx="2729160" cy="431964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7e9ce8"/>
                </a:solidFill>
                <a:uFillTx/>
                <a:latin typeface="Arial"/>
              </a:rPr>
              <a:t>Средства индивидуальной защиты кожи (СИЗК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 СИЗК относят защитную одежду фильтрующего и изолирующего типа, изготовленную из фильтрующих и изолирующих материалов соответственно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 зависимости от принципа боевого использования и кратности применения СИЗК подразделяют на средства постоянного и периодического ношения, средства однократного и многократного примене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 СИЗК фильтрующего типа относятся общевойсковые комплексные защитные костюмы (ОКЗК), (ОКЗК-М), (ОКЗК -Д (десантный)), а также костюм защитный КЗС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 общевойсковым СИЗК изолирующего типа относятся общевойсковой защитный комплект ОЗК и костюм пленочный КЗП. Специальным средством защиты является костюм легкий защитный Л-1 (костюм Л-1) и изолирующие костюмы повышенной герметичност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 rot="21428400">
            <a:off x="0" y="1267920"/>
            <a:ext cx="3848040" cy="547236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66358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Средства индивидуальной защиты кожи </a:t>
            </a:r>
            <a:r>
              <a:rPr b="0" lang="en-US" sz="2200" spc="-1" strike="noStrike" u="sng">
                <a:solidFill>
                  <a:srgbClr val="ff3300"/>
                </a:solidFill>
                <a:uFillTx/>
                <a:latin typeface="Arial"/>
              </a:rPr>
              <a:t>фильтрующего типа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131640" y="1413000"/>
            <a:ext cx="615636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К средствам индивидуальной защиты кожи (СИЗК) фильтрующего типа относятся: общевойсковой комплексный защитный костюм (ОКЗК), общевойсковой комплексный защитный костюм модернизированный (ОКЗК-М), общевойсковой комплексный защитный костюм десантный (ОКЗК-Д), общевойсковой фильтрующий комплекс ОФК, защитный костюм КЗС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50920" y="260280"/>
            <a:ext cx="7705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остейшие средства защиты кож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Из предметов бытовой одежды наиболее пригодны для защиты кожи людей плащи и накидки из прорезиненной или покрытой хлорвиниловой пленкой ткани. Такая одежда предохраняет от попадания на кожу радиоактивных веществ, капельножидких аварийно химически опасных вещест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79280" y="260280"/>
            <a:ext cx="777744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ащиту могут обеспечить также и зимние вещи: пальто из грубого сукна или драпа, ватники, дубленки, кожаные пальто. Так, например, пальто из сукна или драпа вместе с другой одеждой защищает от капельножидких отравляющих веществ и аварийно химически опасных веществ зимой до 1 ч, летом - до 20 мин, ватник, дубленка, кожаное пальто - до 2 ч. Все зависит от конкретных условий, концентрации отравляющих и ядовитых веществ, погодных характеристик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сле соответствующей подготовки защиту могут обеспечить и другие виды верхней одежды: спортивные костюмы, куртки, особенно кожаные, брюк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79280" y="260280"/>
            <a:ext cx="7777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защиты ног лучше всего использовать резиновые сапоги промышленного и бытового назначения, резиновые боты и галоши. Можно применять также обувь из кожи и кожзаменителей, но желательно с резиновыми галошами. Резиновые изделия способны не пропускать капельножидкие токсичные вещества и аварийно химически опасные вещества до 3-6 ч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защиты рук нужны резиновые или кожаные перчатки и рукавиц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50920" y="333360"/>
            <a:ext cx="7885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крой обычной одежды, как правило, не предусматривает полной ее герметизации. Места наибольшей проницаемости радиоактивных, отравляющих и ядовитых веществ: нагрудный разрез, воротник, нижний край куртки, места соединения рукавов с перчатками и низ брюк. Поэтому, чтобы изолировать человека от окружающей среды, необходимо провести тщательную герметизацию одежды. Она должна быть застегнута на все пуговицы, крючки или кнопки. Воротник нужно поднять, а поверх него обвязать шею шарфом или платком. Рукава надо обвязать вокруг запястий тесемками. Брюки нужно выпустить поверх обуви и внизу также завязать тесьмой. Низ куртки или пиджака надо заправить в брюки. Одежду подпояс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Средства защиты органов дыхания (противогазы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Средства оказания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медицинской помощи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Медицинское имуществ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 оказании различных видов медицинской помощи используется медицинское имущество. </a:t>
            </a:r>
            <a:r>
              <a:rPr b="0" lang="en-US" sz="2600" spc="-1" strike="noStrike" u="sng">
                <a:solidFill>
                  <a:srgbClr val="669999"/>
                </a:solidFill>
                <a:uFillTx/>
                <a:latin typeface="Arial"/>
              </a:rPr>
              <a:t>Медицинское имущество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это совокупность специальных материальных средств, предназначенных для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казания медицинской помощи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ыявления (диагностики), лечени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офилактики поражений и заболеваний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оведения санитарно – гигиенических и противоэпидемических мероприятий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борудования медицинских учреждений и медицинских формировани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Виды медицинского имуществ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 медицинскому имуществу относятся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лекарственные средства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ммунобиологические препараты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еревязочные средства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езинфекционные, дератизационные и дезинсекционные средства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шовный материал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едметы ухода за больными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медицинская техника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химические реактивы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лекарственное растительное сырье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минеральные воды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состав </a:t>
            </a: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медицинского имущества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, используемого для оказания первой медицинской помощи в зонах поражения, должны входить только такие специальные материальные средства, которые являются </a:t>
            </a: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компактным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малогабаритным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не требующими источников энергообеспечени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всегда </a:t>
            </a: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готовые к использовани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Виды средств оказания ПМП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пециальными медицинскими средствами являются </a:t>
            </a: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табельны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подручные средств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оказания первой медицинской помощ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Табельные средств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736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Табельными средствам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оказания медицинской помощи являются </a:t>
            </a:r>
            <a:r>
              <a:rPr b="0" lang="en-US" sz="2600" spc="-1" strike="noStrike" u="sng">
                <a:solidFill>
                  <a:srgbClr val="008000"/>
                </a:solidFill>
                <a:uFillTx/>
                <a:latin typeface="Arial"/>
              </a:rPr>
              <a:t>медикамент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008000"/>
                </a:solidFill>
                <a:uFillTx/>
                <a:latin typeface="Arial"/>
              </a:rPr>
              <a:t>перевязочные средств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008000"/>
                </a:solidFill>
                <a:uFillTx/>
                <a:latin typeface="Arial"/>
              </a:rPr>
              <a:t>кровоостанавливающие жгут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008000"/>
                </a:solidFill>
                <a:uFillTx/>
                <a:latin typeface="Arial"/>
              </a:rPr>
              <a:t>шины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ля иммобилизации. Ими обеспечиваются, в соответствии с табелями оснащения, пункты медицинских спасательных центров, а также спасатели спасательных центров, медицинские формирования Всероссийской службы медицины катастроф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Виды табельных средст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6629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табельным средства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предназначенным для оказания первой медицинской помощи, относятся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аптечка индивидуальная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пакет перевязочны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медицинский индивидуальный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пакет противохимически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индивидуальный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сумка медицинская санитарная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и др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5940360" y="1628640"/>
            <a:ext cx="3203640" cy="24480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6802560" y="4149720"/>
            <a:ext cx="234144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Аптечка индивидуальна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64911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Аптечка индивидуальная представляет собой набор лекарственных средств для оказания самопомощи и взаимопомощи при ранениях, переломах и ожогах (для снятия боли) и предупреждения или ослабления поражения фосфорорганическими ОВ, бактериальными средствами и радиоактивными веществами. Аптечка представляет собой футляр из пластика размером 90х100х20 мм, массой 130 г, в который вложены пластмассовые тюбики и пеналы с препаратами. Препараты вложены в семь гнезд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6948360" y="2781360"/>
            <a:ext cx="19908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Гнездо 1 аптечки индивидуальной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нездо 1 - шприц-тюбик с противоболевым средством (промедолом). Он применяется при ранениях, переломах и ожогах как противоболевое средство. Инъекция внутримышечна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звлеките шприц-тюбик из аптечки. Возьмитесь левой рукой за ребристый ободок, а правой - за корпус тюбика и энергичным вращательным движением поверните его до упора по ходу часовой стрелки. Затем снимите колпачок, защищающий иглу, и, держа шприц-тюбик иглой вверх, выдавите из него воздух до появления капли жидкости на кончике иглы. После этого, не касаясь иглы руками, введите ее в мягкие ткани бедра, руки или ягодицу и выдавите содержимое шприц-тюбика. Извлекайте иглу, не разжимая пальцев. В экстренных случаях укол можно сделать и через одежду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Гнезда 2, 3 аптечки индивидуальной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нездо 2 - средство для предупреждения отравления фосфорорганическими ОВ (тарен) находится в круглом красном пенале. В пенале 6 таблеток. Принимают его по сигналу Химическая тревога - одну таблетку. Затем сразу же надевают противогаз. При появлении и нарастании признаков отравления следует принять еще одну таблетку. Повторно принимать препарат рекомендуется не ранее чем через 5-6 часов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нездо 3 - противобактериальное средство ©2 (сульфади-метоксин) находится в большом круглом пенале без окраски (14 таблеток). Использовать его следует при желудочно-кишечном расстройстве, возникающем после облучения. В первые сутки принимают 7 таблеток (в один прием), а в последующие двое суток - по 4 таблетки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731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Гнезда 4, 5 аптечки индивидуальной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нездо 4 - радиозащитное средство ©1 (цистамин) находится в двух восьмигранных пеналах по 6 таблеток в каждом. Этот препарат принимают по сигналу Радиационная опасность 6 таблеток в течение 30-40 минут, запивая водой. При новой угрозе облучения, но не ранее 4-5 часов после первого приема, рекомендуется принять еще 6 таблеток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нездо 5 - противобактериальное средство ©1 (хлортетра-циклин) находится в двух одинаковых четырехгранных пеналах без окраски по 5 таблеток в каждом. Принимать его следует в случае применения противником бактериальных средств, при инфекционном заболевании, а также при ранениях и ожогах. Сначала принимают содержимое одного пенала (сразу 5 таблеток), а затем через 6 часов принимают содержимое другого пенала (также 5 таблеток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Гнездо 6 аптечки индивидуальной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65610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Гнездо 6 - радиозащитное средство ©2 (йодистый калий) находится в четырехгранном пенале белого цвета. В пенале 10 таблеток. Принимать его следует по одной таблетке ежедневно в течение 10 дней после выпадения радиоактивных осадков, при употреблении в пищу зараженного молока. Следует учитывать то, что радиозащитные вещества эффективны, если введены в организм за 30-60 минут перед облучением или принятием зараженной пищи и воды. Защитное их воздействие сохраняется в течение 5-6 часов с момента приема. При необходимости рекомендуется повторить прием таблеток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7086600" y="299736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Гнездо 7 аптечки индивидуальной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8964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нездо 7 - противорвотное средство (этаперазин) находится в круглом пенале голубого цвета в количестве 5 таблеток. Его принимают по одной таблетке сразу после облучения, а также при появлении тошноты после ушиба головы. Хорошим средством профилактики радиационных поражений являются различные адсорбенты: активированный уголь, сернистый барий и др., которые, вбирая в себя радиоактивные вещества, предотвращают распространение их в организме человека. </a:t>
            </a:r>
            <a:r>
              <a:rPr b="0" lang="ru-RU" sz="2100" spc="-1" strike="noStrike">
                <a:solidFill>
                  <a:srgbClr val="c13503"/>
                </a:solidFill>
                <a:latin typeface="Arial"/>
              </a:rPr>
              <a:t>Примечание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Детям до 8 лет на один прием давать 1/4 дозы взрослого, детям от 8 до 15 лет - 1/2 дозы взрослого из перечисленных средств, кроме радиозащитного средства 2 и противоболевого средства, которые даются в полной дозе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Виды аптечек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687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птечка индивидуальная может быть выполнена в трех модификациях АИ-1, АИ-1М, АИ-2. Размеры аптечек индивидуальных АИ-1М, АИ-2 и их масса близки к данным аптечки АИ-1. Срок хранения каждой из аптечек – 3 года. В футляр каждой аптечки вложена инструкция по пользованию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6921360" y="2781360"/>
            <a:ext cx="222264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Аптечка АИ-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птечка индивидуальная АИ-1 содержит шприц-тюбик с афином (для защиты от фосфорганических ОВ), шприц-тюбик с промедолом (противоболевое средство), два пенала с цистамином (для профилактики и лечения лучевой болезни), два пенала с тетрациклином (антибиотик) и пенал с этаперазином (противорвотное средство), размещенными в полиэтиленовом футляре массой 95 г и габаритными размерами 91х101х22 м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Аптечка АИ-1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птечка индивидуальная АИ-1М имеет почти тот же набор лекарственных средств, что и АИ-1. Ее отличие от аптечки индивидуальной АИ-1 состоит в том, что для защиты от фосфорганических ОВ она содержит два шприц-тюбика с афином, а антибиотик тетрациклин заменен антибиотиком доксициклино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Аптечка  АИ-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65610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состав аптечки индивидуальной АИ-2 входят: шприц-тюбик с промедолом (противоболевое средство); пенал с антидотом тареном (для защиты от фосфорорганических ОВ); два пенала с хлортетрациклином (противобактериальное средство № 1) и пенал с сульфодиметоксином (противобактериальное средство № 2); два пенала с цистамином (радиозащитное средство № 1) и пенал с калием йодистым (радиозащитное средство № 2) для лечения и профилактики лучевой болезни; пенал с этаперазином (противорвотное средство), размещенными в полиэтиленовом футляр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877080" y="2859120"/>
            <a:ext cx="22669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Индивидуальный перевязочный пакет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ндивидуальный перевязочный пакет состоит из бинта шириной 10 см и длиной 7 м и двух ватно-марлевых подушечек размером 17,5х32 см. Одна из подушечек пришита около начала бинта неподвижно, а другую можно передвигать по бинту для удобства наложения повязки. Свернутые подушечки и бинт завернуты в вощеную бумагу и вложены в герметичный чехол из прорезиненной ткани, целлофана или пергаментной бумаги. В пакете имеется булавка, на чехле указаны правила пользования пакетом. При вскрытии пакета нельзя нарушать стерильность поверхности подушечки, которой она прикладывается к ране или месту ожога. Руками можно трогать только поверхность подушечки, прошитую цветными ниткам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Применение индивидуального перевязочного пакета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66596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 необширных поражениях подушечки следуют накладывать одна на другую, при сквозных ранениях подвижную подушечку следует переместить по бинту и закрыть вход в отверстие. На раненую поверхность (при сквозном отверстии – на входное и выходное отверстие) подушечки накладывают внутренней стороной. Окончив бинтование, конец бинта закрепляют булавко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 наложении окклюзионной повязки сначала на рану накладывают кусок материала, не пропускающего воздух (клеенку, прорезиненную оболочку от ППМИ), затем стерильную салфетку или стерильный бинт в 3-4 слоя, далее слой ваты и туго забинтовывают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222228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Индивидуальный противохимический пакет ИПП-8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6656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ндивидуальный противохимический пакет ИПП-8 предназначен для обеззараживания капельно-жидких ОВ (отравляющих веществ), попавших на открытые участки тела, одежду, обувь и индивидуальные средства защит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6012000" y="2637000"/>
            <a:ext cx="2808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543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лассификация СИЗОД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1341360"/>
            <a:ext cx="2089080" cy="8636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З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2565360"/>
            <a:ext cx="3959280" cy="5763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ускаемые промышлен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16360" y="2565360"/>
            <a:ext cx="3959280" cy="5763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готовляемые насел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 подручных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03280" y="3357720"/>
            <a:ext cx="2089080" cy="14396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отивог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еспира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амоспасат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16360" y="3284640"/>
            <a:ext cx="3959280" cy="14396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отивопыльные тканевые ма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(ПТМ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атно-марлевые повязки (ВМП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ручные сред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75" idx="0"/>
            <a:endCxn id="176" idx="0"/>
          </p:cNvCxnSpPr>
          <p:nvPr/>
        </p:nvCxnSpPr>
        <p:spPr>
          <a:xfrm flipH="1" rot="16200000">
            <a:off x="4570920" y="441360"/>
            <a:ext cx="2520" cy="42483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0" name=""/>
          <p:cNvCxnSpPr>
            <a:stCxn id="175" idx="2"/>
            <a:endCxn id="177" idx="0"/>
          </p:cNvCxnSpPr>
          <p:nvPr/>
        </p:nvCxnSpPr>
        <p:spPr>
          <a:xfrm>
            <a:off x="2447640" y="314172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6" idx="2"/>
            <a:endCxn id="178" idx="0"/>
          </p:cNvCxnSpPr>
          <p:nvPr/>
        </p:nvCxnSpPr>
        <p:spPr>
          <a:xfrm>
            <a:off x="6695640" y="314136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"/>
          <p:cNvSpPr/>
          <p:nvPr/>
        </p:nvSpPr>
        <p:spPr>
          <a:xfrm>
            <a:off x="4500720" y="220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Состав ИПП-8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акет состоит из стеклянного флакона с дегазирующим раствором и четырех ватно-марлевых тампонов. Важно бережно хранить пакет, чтобы не повредить стеклянный флакон с жидкостью. Когда необходимо, тампоны смачивают жидкостью из флакона и протирают зараженные участки. В первую очередь обеззараживаются открытые участки кожи, а затем края воротника и манжетов, средства индивидуальной защиты и снаряжение. Жидкость пакета ядовита - она не должна попасть в глаза. Если при обработке жидкостью появляется жжение, то нет необходимости волноваться: оно быстро исчезнет и не повлияет на самочувствие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егазирующая жидкость способна убивать и микробов, т.е. обладает дезинфицирующими свойствами. Пакет может использоваться при заражении бактериальными средствами. Однако целевое назначение индивидуального противохимического пакета - это проведение частичной санитарной обработки при заражении отравляющими веществам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рименение ИПП-8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и отсутствии ИПП-8 капельно-жидкие ОВ обезвреживаются раствором, приготовленным из одного литра 3%-ного раствора перекиси водорода и 30 г едкого натра. Едкий натр можно заменить силикатным клеем (150 г клея на 1 литр 3%-ной перекиси водорода). Способ применения раствора такой же, как и жидкости из ИПП-8. При обращении с сухим едким натром нужно следить, чтобы он не попал в глаза и на кож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и пользовании ИПП-8 надо иметь в виду, что жидкость из него можно применять для обеззараживания ОВ, попавших на кожу, только у детей от 7 лет и старше; для обработки кожи у детей от 1,5 до 7 лет следует использовать щелочно-перекисную рецептуру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Сумка медицинская санитарная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6078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Сумка медицинская санитарная представляет собой совокупность предметов медицинского имущества, предназначенных для оказания первой медицинской помощи, находящихся в специальной таре (сумке), комплектуется различными видами перевязочного материала (бинтами марлевыми стерильными, салфетками стерильными малыми и большими, косынками медицинскими перевязочными); ватой гигроскопической и нестерильной в пачках; пакетами перевязочными медицинскими индивидуальными; жгутами кровоостанавливающими; 5 % раствором настойки йода в ампулах; ампулами с раствором аммиака и др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516720" y="2781360"/>
            <a:ext cx="20001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Виды медикамент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медикаментам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используемым при оказании первой медицинской помощи, относятс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нтисептические средства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нтидоты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диозащитные средства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тивоболевые средства и др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Антисептические средств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иболее распространенными </a:t>
            </a:r>
            <a:r>
              <a:rPr b="0" lang="ru-RU" sz="2100" spc="-1" strike="noStrike">
                <a:solidFill>
                  <a:srgbClr val="669999"/>
                </a:solidFill>
                <a:latin typeface="Arial"/>
              </a:rPr>
              <a:t>антисептическими средствам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являются: 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5 % раствор йод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которым смазывают кожу вокруг ран и обеззараживают руки; 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0,1 – 0,5 % раствор калия перманганат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применяемого для полоскания полости рта и промывания желудка при отравлениях фосфором, солями синильной кислоты, алкалоидами; 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3 % раствор перекиси водород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– для дезинфекции, очищения загрязненных ран, оказывает также кровоостанавливающее действие; 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70 % раствор спирта этилового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– используется как обеззараживающее и раздражающее наружное средство и для согревающих компрессов; 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фурацилин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хлорамин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хлорная известь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применяются как дезинфицирующее средство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Антидо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ля лечения поражений отравляющими веществами, попавшими в организм, используются противоядия – антидоты. </a:t>
            </a:r>
            <a:r>
              <a:rPr b="0" lang="en-US" sz="2100" spc="-1" strike="noStrike" u="sng">
                <a:solidFill>
                  <a:srgbClr val="669999"/>
                </a:solidFill>
                <a:uFillTx/>
                <a:latin typeface="Arial"/>
              </a:rPr>
              <a:t>Антидоты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– это лекарственные средства (медикаменты), обезвреживающие яд в организме путем химического или физико-химического взаимодействия с ядом в процессе физических или химических превращений, либо уменьшающие вызванные ядом патологические нарушения в организме.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имером антидота, действующего на основе физико-химического взаимодействия с ядом, является </a:t>
            </a:r>
            <a:r>
              <a:rPr b="0" lang="en-US" sz="2100" spc="-1" strike="noStrike">
                <a:solidFill>
                  <a:srgbClr val="008000"/>
                </a:solidFill>
                <a:latin typeface="Arial"/>
              </a:rPr>
              <a:t>активированный уголь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100" spc="-1" strike="noStrike">
                <a:solidFill>
                  <a:srgbClr val="008000"/>
                </a:solidFill>
                <a:latin typeface="Arial"/>
              </a:rPr>
              <a:t>Перманганат калия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упомянутый как антисептическое средство, употребляется также в качестве антидота для обеззараживания яда путем химического взаимодействия с ним в организм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Виды антидот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61084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 оказании первой медицинской помощи используют </a:t>
            </a:r>
            <a:r>
              <a:rPr b="0" lang="ru-RU" sz="2100" spc="-1" strike="noStrike">
                <a:solidFill>
                  <a:srgbClr val="669999"/>
                </a:solidFill>
                <a:latin typeface="Arial"/>
              </a:rPr>
              <a:t>антидоты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В качестве антидотов при химических поражениях применяют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) Зарином, зоманом - вводимый подкожно или внутримышечно атропин, афин или будаксин из шприц-тюбика однократного или многократного использования, входящие в состав в аптечки индивидуальной АИ-1 (АИ-1М), вместо них принимают 1-2 таблетки тарена из гнезда №2 аптечки АИ-2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б) Азотистыми ипритами, ипритом, люизитом – капли и аэрозоли, попавшие на кожу, удаляют ватным тампоном и обрабатывают эти места раствором из ИПП-8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) синильной кислотой, бромцеаном и хлорцеаном – раздавливают ампулу с амилнитритом и вводят под противогаз или подносят к носу (рту), при этом рекомендуют использовать не более 2-х ампул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начение антидотов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менение антидотов существенно сокращает период выздоровления пораженных. Профилактическое использование антидотов в комплексе со средствами индивидуальной защиты повышает защищенность человека от АХОВ (аварийными химически опасными веществами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адиозащитные средств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обую группу медикаментов, применяемых при оказании первой медицинской помощи, составляют радиозащитные средства (их называют также противолучевые средства, радиопротекторы). </a:t>
            </a:r>
            <a:r>
              <a:rPr b="0" lang="ru-RU" sz="2600" spc="-1" strike="noStrike" u="sng">
                <a:solidFill>
                  <a:srgbClr val="cccc00"/>
                </a:solidFill>
                <a:uFillTx/>
                <a:latin typeface="Arial"/>
              </a:rPr>
              <a:t>Радиозащитные средств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это лекарственные средства, повышающие устойчивость организма к действию ионизирующего излучения, они применяются для профилактики радиационных поражений и лучевой болезни. Например, меркамина гидрохлорид, цистамина гидрохлорид, мексамин, батило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одручные средств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Подручным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являются средства, которые используются для оказания медицинской помощи при отсутствии табельных, и обеспечивают их замену. К ним относятся некоторые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лекарственные растения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ткан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белье для перевязо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при ранах и ожогах;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брючные ремн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пояс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платк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шарф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которые могут быть использованы для остановки артериального кровотечения вместо жгута;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фанерные полоск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доск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палк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и другие предметы, применяемые вместо шин и т.д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Противогаз Зелинского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166560" y="620640"/>
            <a:ext cx="5977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161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явление противогаза связано с появлением нового вида оружия массового поражения - химического оружия. Отравляющие вещества впервые применили в Первую мировую войну войска кайзеровской Германии против позиций англо-французских войск. Необходимо было в короткие сроки создать надежные средства защиты от отравляющих веществ. Химики, медики и другие специалисты многих стран трудились над этой задачей. Лучше других работа удалась русскому ученому-химику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Николаю Дмитриевичу Зелинско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(1861-1953 гг.)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который предложил использовать в защитном приборе в качестве поглощающего вещества древесный уголь. В июне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1915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а заседании противогазовой комиссии при Русском техническом обществе Зелинский впервые доложил о найденном им средстве. В конце 1915 инженер Э. Л. Куммант предложил использовать в конструкции противогаза резиновый шлем. Из-за преступной задержки с внедрением противогаза по вине командования армии только в феврале 1916 после испытаний в полевых условиях он, наконец, был принят на вооружение. К середине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916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было налажено массовое производство противогазов Зелинского-Кумманта. Всего за годы Первой мировой войны в действующую армию было направлено более 11 миллионов противогазов, что спасло жизнь миллионам русских солда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1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едложенная конструкция оказалась на­столько удачной, что стала прообразом современных фильтрующих противогазов. Постоянно совершенствуясь, противогаз дошел до наших дней и остается наиболее распространенным средством защиты органов дыха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7295" t="0" r="7519" b="0"/>
          <a:stretch/>
        </p:blipFill>
        <p:spPr>
          <a:xfrm>
            <a:off x="395280" y="1628640"/>
            <a:ext cx="2519280" cy="32911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62240" y="5157720"/>
            <a:ext cx="23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66"/>
                </a:solidFill>
                <a:latin typeface="Arial"/>
              </a:rPr>
              <a:t>Н.Д.Зелинский (1861-1953 г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одручные средства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РОВООСТАНАВЛИВАЮЩИЙ ЖГУТ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оясной ремень, галстук, косынка, шарф, кашне, лента для бант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емешок сумочки, ранца, школьного портфел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Шнур электробритвы, аудио и видеоаппаратуры, оргтехник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бшлаг верхней одежды, тканевой шов юбки и брюк, свернутый скотч, полиэтиле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еревки, кабели, провода, проволока, тросы, канат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стяжки, стропы, фалы, шнур от куртки (ветровки) рюкзака, палатк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ХИРУРГИЧЕСКИЙ ИНСТРУМЕНТ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Маникюрный набор, лезвия, извлеченные из станков для бритья, перочинный нож. Зубочистка, шило, соломинка для коктейля, стебли камыша, тростника, бамбук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одручные средства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ЕРЕВЯЗОЧНЫЕ СРЕДСТВА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Нижнее и верхнее белье, рубашки, платья разорвать на лоскут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остыни, наволочки, полотенца, флаги, транспаранты, парус, палатк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Запас гигиенических средств: вата, носовые платки и др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ЕЗИНФЕКЦИЯ РАН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Алкогольные напитки, одеколон, духи, туалетная вод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скаленное лезвие ножа, металлической обшивки, съемных деталей, проволок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ЕЗИНФЕКЦИЯ ИНСТРУМЕНТОВ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гонь, кипяток, алкоголь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одручные средства 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 ТРАВМЕ ПОЗВОНОЧНИКА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абор, доски, фанера, штакетник, панели ПВХ, пластик, постформинг, крышка стола, шкафа, снятая с петель дверь, листы жести, более толстого металла, плоский шифер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 ПЕРЕЛОМЕ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ейки, палки, штакетник, ветви, пучки стеблей, прутья, проволока, арматур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исты пластика, картон, фанера, плотно скатанная одежда, трость, зонтик, лыж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ожка, вилка, лезвие ножа, пилка для ногт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апки, файлы, дискеты, коробки компакт диск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релом нижней конечности - привязать (прибинтовать) поврежденную ногу к здорово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релом верхней конечности - привязать поврежденную руку к туловищ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одручные средства 4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ЛЯ НОСИЛОК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ставить палки (ветви, лыжи, весла и т.п.)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 рукава нескольких курток, ветровок, пиджаков, свитеров, смокингов, пальто, плаща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 юбку или платье из плотной ткани, чехол сидения машины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 отверстия спального мешка, фрагмента парус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ПАСАТЕЛЬНЫЙ КРУГ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олиэтиленовые пакеты и сумки, кусок парусины свернутой в мешо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устые пластиковые бутылки, канистры, емкости, обломки пенопл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уртка, застегнутая до подбородка на молнию (откинуться на спину и хлопающими движениями нижним краем куртки по воде, наполнить ее воздухом; опустить нижний край под воду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пишите домашнее зад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0"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spcBef>
                <a:spcPts val="15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Изготовить ВМП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mph" presetID="35" repeatCount="500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33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Назначение, принцип действия и классификация фильтрующих противогазов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11640" y="1844640"/>
            <a:ext cx="2520720" cy="7923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тивога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52720" y="2995560"/>
            <a:ext cx="3240000" cy="6494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о обла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ри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6560" y="2995560"/>
            <a:ext cx="1657440" cy="6494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о принцип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2995560"/>
            <a:ext cx="2089440" cy="6494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о возрастно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назна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90" idx="0"/>
            <a:endCxn id="191" idx="0"/>
          </p:cNvCxnSpPr>
          <p:nvPr/>
        </p:nvCxnSpPr>
        <p:spPr>
          <a:xfrm flipH="1" rot="16200000">
            <a:off x="4462920" y="-173520"/>
            <a:ext cx="2520" cy="6338160"/>
          </a:xfrm>
          <a:prstGeom prst="bentConnector3">
            <a:avLst>
              <a:gd name="adj1" fmla="val -1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3" name=""/>
          <p:cNvCxnSpPr>
            <a:stCxn id="188" idx="2"/>
            <a:endCxn id="189" idx="0"/>
          </p:cNvCxnSpPr>
          <p:nvPr/>
        </p:nvCxnSpPr>
        <p:spPr>
          <a:xfrm>
            <a:off x="4572000" y="2637000"/>
            <a:ext cx="216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468360" y="3645000"/>
            <a:ext cx="1655640" cy="863640"/>
          </a:xfrm>
          <a:prstGeom prst="flowChartAlternate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ильтрующ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золирующ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16360" y="3645000"/>
            <a:ext cx="3313080" cy="863640"/>
          </a:xfrm>
          <a:prstGeom prst="flowChartAlternate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личного состава В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раждан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мышлен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88000" y="3645000"/>
            <a:ext cx="2087640" cy="1512720"/>
          </a:xfrm>
          <a:prstGeom prst="flowChartAlternate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взросл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дет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ошколь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школь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зра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Противогазы  и респираторы для л/с Вооруженных сил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едназначены для защит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т радиоактивной пыли (РП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т отравляющих веществ (О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т биологических (бактериальных) аэрозолей (Б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т АХО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2:17:29Z</dcterms:created>
  <dc:creator>OEM</dc:creator>
  <dc:description/>
  <dc:language>en-US</dc:language>
  <cp:lastModifiedBy>User</cp:lastModifiedBy>
  <dcterms:modified xsi:type="dcterms:W3CDTF">2010-12-06T06:20:04Z</dcterms:modified>
  <cp:revision>15</cp:revision>
  <dc:subject/>
  <dc:title>СРЕДСТВА ИНДИВИДУАЛЬНОЙ ЗАЩИТЫ НАСЕЛЕНИЯ </dc:title>
</cp:coreProperties>
</file>